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D0A0-3609-402F-ACF6-99B0ED1BA9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нфляция: сущность, причины, изме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авка Н.В., учитель истории и обществознания МОУ «Февральская СОШ № 1»,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1E8E-A0CB-431C-AF38-888D1021F3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Устойчивая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тенденция повышения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общего уровня цен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а товары и услуги в стране, выраженная в процен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инского 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ti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ду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 = ЦТП / ЦБГ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П - индекс цен текущего периода (мес., кв.,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ТП - цены текущего периода, ЦБГ - цены базов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= (ЦТП-ЦПП) / ЦПП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 - темпы прироста цен текущего периода, ЦТП - цены текущего пери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ПП - цены прошл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Дефля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снижение общего уровня цен, которое не носит сезо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арактера. Замедление темпа прироста цен назыв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дезинфляци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DF5F-F839-48BC-B436-6B15A00026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93C7-9965-4B56-A38A-7AE74B6CA5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 цен по секторам экономики России (декабрь к декабрю предыдущего года; в раз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F4A8-F622-43F8-99B1-6FF428ADF4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 степени сбалансированности роста цен 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балансированную и несбалансированную инфля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прогнозируемую и непрогнозируемую инфляции.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Сочетание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сбалансированн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прогнозируем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 инфляции не наносит особого вреда экономике, а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сбалансированн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прогнозируем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опасны и чреваты большими издержками в период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D7B9-FAFA-4587-BA7D-4A864EBE8A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66"/>
                </a:solidFill>
                <a:latin typeface="Impact"/>
              </a:rPr>
              <a:t>Антиинфляционн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учетной ставки (ставки рефинансирования).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нормы обязательного резерв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сокращение государственных расходов и социаль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совершен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твование налоговой системы и увеличение налоговых поступлений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0B0E-E16F-4E28-B9AA-D3E69C0947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Правила написания синкве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1 строчка – одно слово (название стихотворения, тема, обычно существительно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2 строчка – два слова (описание темы, прилагательные или причас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3 строчка – три слова (действие темы, глаго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6091-1626-446D-87CD-FA014B59ED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9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8 – 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Творческая работа на тему «Инфля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DB17-075F-4143-8F8B-B6D9F28BBB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DBA-1C49-4F62-BA7B-BAF105A1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047-CDFD-4043-AAD8-E13AC3FE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72E-59FD-490E-B8F6-3F8AD96D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35C-BC83-436A-9C95-48EC11AA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FAF-A6E0-4857-B44B-50F845DF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93B-3A3C-4910-A584-4A3C16F2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F40-FA25-4641-BF48-6D3AEDF6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4B0-B446-46ED-9CFC-2D2AF267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936-2F6D-4CBA-89CF-6D982DEE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BA4-EC38-4711-BF74-CBEB244D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1E5-FBD0-4CE2-9783-34D1C701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188-7C6B-43FF-AF8E-5658E1E9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B7B6-3414-4D86-9264-6B5E013BC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инфляция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нфляция: сущность, причины, изме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87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059280" y="189000"/>
            <a:ext cx="21621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Эконом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 rot="20684400">
            <a:off x="250920" y="980640"/>
            <a:ext cx="244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ляц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87640" y="189000"/>
            <a:ext cx="55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Устойчива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тенденция повышени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щего уровня 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на товары и услуги в стране, выраженная в проц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68360" y="3284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латинског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ду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5877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фля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нижение общего уровня цен, которое не носит сезон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а. Замедление темпа прироста цен назыв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дезинфляци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1258920" y="3645000"/>
            <a:ext cx="7129440" cy="1081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 = ЦТП / ЦБГ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ИП - индекс цен текущего периода (мес., кв., го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ТП - цены текущего периода, ЦБГ - цены базов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179280" y="4797360"/>
            <a:ext cx="8964720" cy="1079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= (ЦТП-ЦПП) / ЦПП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 - темпы прироста цен текущего периода, ЦТП - цены текущего пери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ПП - цены прошлого пери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5"/>
          <p:cNvSpPr/>
          <p:nvPr/>
        </p:nvSpPr>
        <p:spPr>
          <a:xfrm>
            <a:off x="1332000" y="692280"/>
            <a:ext cx="6264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90000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ем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30072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635280" y="188280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мех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428472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176364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6732720" y="1341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8"/>
          <p:cNvGrpSpPr/>
          <p:nvPr/>
        </p:nvGrpSpPr>
        <p:grpSpPr>
          <a:xfrm>
            <a:off x="179280" y="2781360"/>
            <a:ext cx="8712360" cy="1584360"/>
            <a:chOff x="179280" y="2781360"/>
            <a:chExt cx="8712360" cy="1584360"/>
          </a:xfrm>
        </p:grpSpPr>
        <p:sp>
          <p:nvSpPr>
            <p:cNvPr id="68" name="AutoShape 39"/>
            <p:cNvSpPr/>
            <p:nvPr/>
          </p:nvSpPr>
          <p:spPr>
            <a:xfrm>
              <a:off x="2340000" y="2781360"/>
              <a:ext cx="3887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темп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40"/>
            <p:cNvSpPr/>
            <p:nvPr/>
          </p:nvSpPr>
          <p:spPr>
            <a:xfrm>
              <a:off x="17928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олзуч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1"/>
            <p:cNvSpPr/>
            <p:nvPr/>
          </p:nvSpPr>
          <p:spPr>
            <a:xfrm>
              <a:off x="6659640" y="3718080"/>
              <a:ext cx="2232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2"/>
            <p:cNvSpPr/>
            <p:nvPr/>
          </p:nvSpPr>
          <p:spPr>
            <a:xfrm>
              <a:off x="2411280" y="3718080"/>
              <a:ext cx="1871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мер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3"/>
            <p:cNvSpPr/>
            <p:nvPr/>
          </p:nvSpPr>
          <p:spPr>
            <a:xfrm>
              <a:off x="442764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AutoShape 44"/>
            <p:cNvCxnSpPr>
              <a:stCxn id="68" idx="1"/>
              <a:endCxn id="69" idx="0"/>
            </p:cNvCxnSpPr>
            <p:nvPr/>
          </p:nvCxnSpPr>
          <p:spPr>
            <a:xfrm flipV="1" rot="10800000">
              <a:off x="1223280" y="3105000"/>
              <a:ext cx="1116720" cy="613440"/>
            </a:xfrm>
            <a:prstGeom prst="bentConnector2">
              <a:avLst/>
            </a:prstGeom>
            <a:ln w="38160">
              <a:solidFill>
                <a:srgbClr val="ffcccc"/>
              </a:solidFill>
              <a:miter/>
            </a:ln>
          </p:spPr>
        </p:cxnSp>
        <p:cxnSp>
          <p:nvCxnSpPr>
            <p:cNvPr id="74" name="AutoShape 45"/>
            <p:cNvCxnSpPr>
              <a:stCxn id="68" idx="3"/>
              <a:endCxn id="70" idx="0"/>
            </p:cNvCxnSpPr>
            <p:nvPr/>
          </p:nvCxnSpPr>
          <p:spPr>
            <a:xfrm>
              <a:off x="6227640" y="3105360"/>
              <a:ext cx="1548720" cy="613440"/>
            </a:xfrm>
            <a:prstGeom prst="bentConnector2">
              <a:avLst/>
            </a:prstGeom>
            <a:ln w="28440">
              <a:solidFill>
                <a:srgbClr val="ffcccc"/>
              </a:solidFill>
              <a:miter/>
            </a:ln>
          </p:spPr>
        </p:cxnSp>
        <p:sp>
          <p:nvSpPr>
            <p:cNvPr id="75" name="Line 46"/>
            <p:cNvSpPr/>
            <p:nvPr/>
          </p:nvSpPr>
          <p:spPr>
            <a:xfrm>
              <a:off x="334800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>
              <a:off x="543564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4"/>
          <p:cNvGrpSpPr/>
          <p:nvPr/>
        </p:nvGrpSpPr>
        <p:grpSpPr>
          <a:xfrm>
            <a:off x="1258920" y="4581360"/>
            <a:ext cx="6696000" cy="1655640"/>
            <a:chOff x="1258920" y="4581360"/>
            <a:chExt cx="6696000" cy="1655640"/>
          </a:xfrm>
        </p:grpSpPr>
        <p:sp>
          <p:nvSpPr>
            <p:cNvPr id="78" name="AutoShape 49"/>
            <p:cNvSpPr/>
            <p:nvPr/>
          </p:nvSpPr>
          <p:spPr>
            <a:xfrm>
              <a:off x="3132360" y="4581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фор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0"/>
            <p:cNvSpPr/>
            <p:nvPr/>
          </p:nvSpPr>
          <p:spPr>
            <a:xfrm>
              <a:off x="125892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ценов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1"/>
            <p:cNvSpPr/>
            <p:nvPr/>
          </p:nvSpPr>
          <p:spPr>
            <a:xfrm>
              <a:off x="521964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авл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AutoShape 52"/>
            <p:cNvCxnSpPr>
              <a:stCxn id="78" idx="1"/>
              <a:endCxn id="79" idx="0"/>
            </p:cNvCxnSpPr>
            <p:nvPr/>
          </p:nvCxnSpPr>
          <p:spPr>
            <a:xfrm flipV="1" rot="10800000">
              <a:off x="2626560" y="4903920"/>
              <a:ext cx="50580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  <p:cxnSp>
          <p:nvCxnSpPr>
            <p:cNvPr id="82" name="AutoShape 53"/>
            <p:cNvCxnSpPr>
              <a:stCxn id="78" idx="3"/>
              <a:endCxn id="80" idx="0"/>
            </p:cNvCxnSpPr>
            <p:nvPr/>
          </p:nvCxnSpPr>
          <p:spPr>
            <a:xfrm>
              <a:off x="5867640" y="4904640"/>
              <a:ext cx="72144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</p:grpSp>
      <p:grpSp>
        <p:nvGrpSpPr>
          <p:cNvPr id="83" name="Group 62"/>
          <p:cNvGrpSpPr/>
          <p:nvPr/>
        </p:nvGrpSpPr>
        <p:grpSpPr>
          <a:xfrm>
            <a:off x="250920" y="4581360"/>
            <a:ext cx="8570880" cy="1585800"/>
            <a:chOff x="250920" y="4581360"/>
            <a:chExt cx="8570880" cy="1585800"/>
          </a:xfrm>
        </p:grpSpPr>
        <p:sp>
          <p:nvSpPr>
            <p:cNvPr id="84" name="AutoShape 55"/>
            <p:cNvSpPr/>
            <p:nvPr/>
          </p:nvSpPr>
          <p:spPr>
            <a:xfrm>
              <a:off x="3132000" y="458136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у 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6"/>
            <p:cNvSpPr/>
            <p:nvPr/>
          </p:nvSpPr>
          <p:spPr>
            <a:xfrm>
              <a:off x="25092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с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7"/>
            <p:cNvSpPr/>
            <p:nvPr/>
          </p:nvSpPr>
          <p:spPr>
            <a:xfrm>
              <a:off x="316548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редло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58"/>
            <p:cNvSpPr/>
            <p:nvPr/>
          </p:nvSpPr>
          <p:spPr>
            <a:xfrm>
              <a:off x="6084720" y="551808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издерж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59"/>
            <p:cNvCxnSpPr>
              <a:stCxn id="84" idx="1"/>
              <a:endCxn id="85" idx="0"/>
            </p:cNvCxnSpPr>
            <p:nvPr/>
          </p:nvCxnSpPr>
          <p:spPr>
            <a:xfrm flipV="1" rot="10800000">
              <a:off x="1618560" y="4906440"/>
              <a:ext cx="151344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cxnSp>
          <p:nvCxnSpPr>
            <p:cNvPr id="89" name="AutoShape 60"/>
            <p:cNvCxnSpPr>
              <a:stCxn id="84" idx="3"/>
              <a:endCxn id="87" idx="0"/>
            </p:cNvCxnSpPr>
            <p:nvPr/>
          </p:nvCxnSpPr>
          <p:spPr>
            <a:xfrm>
              <a:off x="5868720" y="4906800"/>
              <a:ext cx="158508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sp>
          <p:nvSpPr>
            <p:cNvPr id="90" name="Line 61"/>
            <p:cNvSpPr/>
            <p:nvPr/>
          </p:nvSpPr>
          <p:spPr>
            <a:xfrm>
              <a:off x="4500720" y="5229000"/>
              <a:ext cx="0" cy="289080"/>
            </a:xfrm>
            <a:prstGeom prst="line">
              <a:avLst/>
            </a:prstGeom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63">
            <a:hlinkClick r:id="" action="ppaction://hlinkshowjump?jump=nextslide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Less" w="21600" h="21931">
                <a:moveTo>
                  <a:pt x="5273" y="4150"/>
                </a:moveTo>
                <a:lnTo>
                  <a:pt x="12271" y="4150"/>
                </a:lnTo>
                <a:lnTo>
                  <a:pt x="16327" y="7649"/>
                </a:lnTo>
                <a:lnTo>
                  <a:pt x="16327" y="17780"/>
                </a:lnTo>
                <a:lnTo>
                  <a:pt x="5273" y="17780"/>
                </a:lnTo>
                <a:close/>
              </a:path>
              <a:path fill="darken" w="21600" h="21931">
                <a:moveTo>
                  <a:pt x="12271" y="4150"/>
                </a:moveTo>
                <a:lnTo>
                  <a:pt x="16327" y="7649"/>
                </a:lnTo>
                <a:lnTo>
                  <a:pt x="12271" y="76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4">
            <a:hlinkClick r:id="rId1" action="ppaction://hlinksldjump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ексы цен по секторам экономики России (декабрь к декабрю предыдущего года; в раз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50920" y="1268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25092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889308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50920" y="2133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41128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9236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457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565164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673272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781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24360" y="14130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тор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48652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56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64580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726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680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7958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325080" y="22050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потреб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ьских 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558160" y="2276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3781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861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869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68788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029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250920" y="299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252000" y="299736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произ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ителе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ленно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255816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>
            <a:off x="371052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4789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5797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3"/>
          <p:cNvSpPr/>
          <p:nvPr/>
        </p:nvSpPr>
        <p:spPr>
          <a:xfrm>
            <a:off x="6950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8174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250920" y="4365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252000" y="4508640"/>
            <a:ext cx="217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реа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ции проду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охозяй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ными пре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2557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3637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478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0"/>
          <p:cNvSpPr/>
          <p:nvPr/>
        </p:nvSpPr>
        <p:spPr>
          <a:xfrm>
            <a:off x="5869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68788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802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3"/>
          <p:cNvSpPr/>
          <p:nvPr/>
        </p:nvSpPr>
        <p:spPr>
          <a:xfrm>
            <a:off x="250920" y="623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5">
            <a:hlinkClick r:id="" action="ppaction://hlinkshowjump?jump=nextslide"/>
          </p:cNvPr>
          <p:cNvSpPr/>
          <p:nvPr/>
        </p:nvSpPr>
        <p:spPr>
          <a:xfrm>
            <a:off x="8172360" y="630864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3" h="21600">
                <a:moveTo>
                  <a:pt x="12090" y="3794"/>
                </a:moveTo>
                <a:lnTo>
                  <a:pt x="26103" y="10800"/>
                </a:lnTo>
                <a:lnTo>
                  <a:pt x="120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инфляция в России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2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>
            <a:hlinkClick r:id="rId2" action="ppaction://hlinksldjump"/>
          </p:cNvPr>
          <p:cNvSpPr/>
          <p:nvPr/>
        </p:nvSpPr>
        <p:spPr>
          <a:xfrm>
            <a:off x="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10800"/>
                </a:moveTo>
                <a:lnTo>
                  <a:pt x="24413" y="3794"/>
                </a:lnTo>
                <a:lnTo>
                  <a:pt x="244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684360" y="476280"/>
            <a:ext cx="5545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о степени сбалансированности роста цен 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балансированную и несбалансированную инфля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kassa"/>
          <p:cNvPicPr/>
          <p:nvPr/>
        </p:nvPicPr>
        <p:blipFill>
          <a:blip r:embed="rId1"/>
          <a:stretch/>
        </p:blipFill>
        <p:spPr>
          <a:xfrm>
            <a:off x="6300720" y="404640"/>
            <a:ext cx="182088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world2_135"/>
          <p:cNvPicPr/>
          <p:nvPr/>
        </p:nvPicPr>
        <p:blipFill>
          <a:blip r:embed="rId2"/>
          <a:stretch/>
        </p:blipFill>
        <p:spPr>
          <a:xfrm>
            <a:off x="324000" y="3284640"/>
            <a:ext cx="3373200" cy="2498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3924360" y="3141720"/>
            <a:ext cx="47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гнозируемую и непрогнозируемую инфляции.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9280" y="5805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Сочетание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балансированн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огнозируем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 инфляции не наносит особого вреда экономике, а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сбалансированн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прогнозируем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опасны и чреваты большими издержками в период адап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1476360" y="5805360"/>
            <a:ext cx="5472000" cy="648000"/>
            <a:chOff x="1476360" y="5805360"/>
            <a:chExt cx="5472000" cy="648000"/>
          </a:xfrm>
        </p:grpSpPr>
        <p:sp>
          <p:nvSpPr>
            <p:cNvPr id="147" name="Rectangle 10"/>
            <p:cNvSpPr/>
            <p:nvPr/>
          </p:nvSpPr>
          <p:spPr>
            <a:xfrm>
              <a:off x="1476360" y="5805360"/>
              <a:ext cx="201600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708360" y="5805360"/>
              <a:ext cx="180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859280" y="6165720"/>
              <a:ext cx="2089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2411280" y="6165720"/>
              <a:ext cx="223200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"/>
          <p:cNvSpPr/>
          <p:nvPr/>
        </p:nvSpPr>
        <p:spPr>
          <a:xfrm>
            <a:off x="324000" y="64944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учетной ставки (ставки рефинансирования).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ddddd"/>
                </a:solidFill>
                <a:latin typeface="Arial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нормы обязательного резерв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сокращение государственных расходов и социа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совершен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твование налоговой системы и увеличение налоговых поступлений в бюд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250920" y="189000"/>
            <a:ext cx="8562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инфляционная политика государства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Правила написания синквей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1 строчка – одно слово (название стихотворения, тема, обычно существительн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2 строчка – два слова (описание темы, прилагательные или причаст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3 строчка – три слова (действие темы, глагол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9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8 – по жел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ворческая работа на тему «Инфля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5:12:26Z</dcterms:created>
  <dc:creator>Надежда</dc:creator>
  <dc:description/>
  <dc:language>en-US</dc:language>
  <cp:lastModifiedBy>LEGION</cp:lastModifiedBy>
  <dcterms:modified xsi:type="dcterms:W3CDTF">2015-01-05T10:16:45Z</dcterms:modified>
  <cp:revision>14</cp:revision>
  <dc:subject/>
  <dc:title>Инфляция: сущность, причины, измерение</dc:title>
</cp:coreProperties>
</file>